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907588" cy="6858000"/>
  <p:notesSz cx="6807200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076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560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712440" y="744480"/>
            <a:ext cx="5381640" cy="372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38840"/>
            <a:ext cx="294948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5600" y="9438840"/>
            <a:ext cx="294948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C353F-9F3D-4DE0-B313-D05B5AF6C63A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712800" y="744480"/>
            <a:ext cx="5381640" cy="372744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8" name="슬라이드 번호 개체 틀 3"/>
          <p:cNvSpPr/>
          <p:nvPr/>
        </p:nvSpPr>
        <p:spPr>
          <a:xfrm>
            <a:off x="3855960" y="943920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8C5A4-6185-45B3-8BDF-F5853166A203}" type="slidenum"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712800" y="744480"/>
            <a:ext cx="5381640" cy="372744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슬라이드 번호 개체 틀 3"/>
          <p:cNvSpPr/>
          <p:nvPr/>
        </p:nvSpPr>
        <p:spPr>
          <a:xfrm>
            <a:off x="3855960" y="943920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50F9B-5772-4E41-AC16-55B427CEE511}" type="slidenum"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62622-D8A7-4D2E-AE53-B020067AA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D9093-AB05-4589-9D87-F792B0D32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7BBEC-4601-4491-89C7-1F1091E6C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64DDE-B17F-4388-9F13-4BF3FF7D5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D90C6-834B-47B1-B393-ABACFAEE9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97DD3-A92A-49F7-B3CB-B6E668826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89D83-1C0D-49B8-840E-B8ACFB0F8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D771E-ED81-4107-9D00-58B6536D2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A270E-B9A2-45ED-AAF6-D0D109170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00EE4-0A40-4084-9EE1-F8320777D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2B0D3-F693-43ED-A4C9-B9833F856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315D5-2554-42B7-8895-B2CFD2DB9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FD7BA-A765-41B7-9F5D-E718EFA9A7D0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직사각형 29"/>
          <p:cNvSpPr/>
          <p:nvPr/>
        </p:nvSpPr>
        <p:spPr>
          <a:xfrm>
            <a:off x="4406760" y="422280"/>
            <a:ext cx="169920" cy="625968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9" name="그림 49" descr=""/>
          <p:cNvPicPr/>
          <p:nvPr/>
        </p:nvPicPr>
        <p:blipFill>
          <a:blip r:embed="rId1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50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1" name="그림 42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sp>
        <p:nvSpPr>
          <p:cNvPr id="52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7392960" y="369900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MA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Text Box 51"/>
          <p:cNvSpPr/>
          <p:nvPr/>
        </p:nvSpPr>
        <p:spPr>
          <a:xfrm>
            <a:off x="1981080" y="5851440"/>
            <a:ext cx="68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PE(H111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직선 연결선 3"/>
          <p:cNvSpPr/>
          <p:nvPr/>
        </p:nvSpPr>
        <p:spPr>
          <a:xfrm>
            <a:off x="219240" y="42228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직사각형 27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ALT1 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_ BED &lt;1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 침대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직사각형 4"/>
          <p:cNvSpPr/>
          <p:nvPr/>
        </p:nvSpPr>
        <p:spPr>
          <a:xfrm>
            <a:off x="219240" y="6465960"/>
            <a:ext cx="41875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※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상기 자재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amp; HARDWARE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는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K.S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품질 기준 또는 동일한 품질에 합격한 제품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위에 기재된 내용은 지속적인 제품의 연구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개발 보완으로 인해 변경될 수 있습니다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직선 연결선 30"/>
          <p:cNvSpPr/>
          <p:nvPr/>
        </p:nvSpPr>
        <p:spPr>
          <a:xfrm>
            <a:off x="219240" y="831960"/>
            <a:ext cx="41875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9" name="Picture 3" descr="E:\20140916_133412.jpg"/>
          <p:cNvPicPr/>
          <p:nvPr/>
        </p:nvPicPr>
        <p:blipFill>
          <a:blip r:embed="rId3"/>
          <a:srcRect l="17557" t="33157" r="20051" b="19800"/>
          <a:stretch/>
        </p:blipFill>
        <p:spPr>
          <a:xfrm>
            <a:off x="5548320" y="598320"/>
            <a:ext cx="2881440" cy="1571760"/>
          </a:xfrm>
          <a:prstGeom prst="rect">
            <a:avLst/>
          </a:prstGeom>
          <a:ln w="0">
            <a:noFill/>
          </a:ln>
        </p:spPr>
      </p:pic>
      <p:pic>
        <p:nvPicPr>
          <p:cNvPr id="60" name="그림 10" descr=""/>
          <p:cNvPicPr/>
          <p:nvPr/>
        </p:nvPicPr>
        <p:blipFill>
          <a:blip r:embed="rId4"/>
          <a:srcRect l="4714" t="2648" r="5011" b="2976"/>
          <a:stretch/>
        </p:blipFill>
        <p:spPr>
          <a:xfrm>
            <a:off x="4808520" y="2503440"/>
            <a:ext cx="4897440" cy="3830760"/>
          </a:xfrm>
          <a:prstGeom prst="rect">
            <a:avLst/>
          </a:prstGeom>
          <a:ln w="0">
            <a:noFill/>
          </a:ln>
        </p:spPr>
      </p:pic>
      <p:sp>
        <p:nvSpPr>
          <p:cNvPr id="61" name="TextBox 9"/>
          <p:cNvSpPr/>
          <p:nvPr/>
        </p:nvSpPr>
        <p:spPr>
          <a:xfrm>
            <a:off x="219240" y="900000"/>
            <a:ext cx="4187520" cy="55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규  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020(W) X 2059(L) X 928(H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화운데이션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1000(W) X  2000(L) X 180(H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4d4d4d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다리통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100mm(H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4d4d4d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4d4d4d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디자인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헤드보드 상단 모서리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화운데이션 전면 모서리의 라운딩 처리와 내추럴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컬러 적용으로 안정감 있는  디자인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헤드보드의 플러쉬패널 가공으로 제품의 경량화 구현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헤드보드와 매트리스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화운데이션 간 유격을 최소화하여 기숙사 내실에서의 공간활용성을 고려한 디자인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화운데이션은 오염과 훼손에 강한 브라운 컬러 패브릭으로 마감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추가침구가 필요 없는 디자인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소  재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헤드보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표면재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전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후면 스마트포일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선함침지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)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접착 마감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원자재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E0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등급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MDF, 39T Flush Panel(4.5T X 30T X 4.5T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EDGE : 0.6T PVC EDGE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마감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화운데이션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원단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브라운 패브릭 원단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내장재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네오텍스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폴리에스테르 솜 압축펀칭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매쉬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3.20mm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연선매쉬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마이티스프링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강선두께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3.50mm 6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회전 스프링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모래시계 형태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목대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미송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스프러스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)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수분함유율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3%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이하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코너스폰지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밀도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60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㎏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㎡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안전성 확보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직사각형 29"/>
          <p:cNvSpPr/>
          <p:nvPr/>
        </p:nvSpPr>
        <p:spPr>
          <a:xfrm>
            <a:off x="4406760" y="422280"/>
            <a:ext cx="169920" cy="625968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3" name="그림 49" descr=""/>
          <p:cNvPicPr/>
          <p:nvPr/>
        </p:nvPicPr>
        <p:blipFill>
          <a:blip r:embed="rId1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64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5" name="그림 42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sp>
        <p:nvSpPr>
          <p:cNvPr id="66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7392960" y="369900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MA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Text Box 51"/>
          <p:cNvSpPr/>
          <p:nvPr/>
        </p:nvSpPr>
        <p:spPr>
          <a:xfrm>
            <a:off x="1981080" y="5851440"/>
            <a:ext cx="68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PE(H111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직선 연결선 3"/>
          <p:cNvSpPr/>
          <p:nvPr/>
        </p:nvSpPr>
        <p:spPr>
          <a:xfrm>
            <a:off x="219240" y="42228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직사각형 27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ALT1 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_ BED &lt;1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인용 메트리스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직선 연결선 30"/>
          <p:cNvSpPr/>
          <p:nvPr/>
        </p:nvSpPr>
        <p:spPr>
          <a:xfrm>
            <a:off x="219240" y="831960"/>
            <a:ext cx="41875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2" name="그림 1" descr=""/>
          <p:cNvPicPr/>
          <p:nvPr/>
        </p:nvPicPr>
        <p:blipFill>
          <a:blip r:embed="rId3"/>
          <a:srcRect l="2403" t="15147" r="1545" b="19120"/>
          <a:stretch/>
        </p:blipFill>
        <p:spPr>
          <a:xfrm>
            <a:off x="4757760" y="2538360"/>
            <a:ext cx="4795920" cy="2562120"/>
          </a:xfrm>
          <a:prstGeom prst="rect">
            <a:avLst/>
          </a:prstGeom>
          <a:ln w="0">
            <a:noFill/>
          </a:ln>
        </p:spPr>
      </p:pic>
      <p:sp>
        <p:nvSpPr>
          <p:cNvPr id="73" name="직사각형 13"/>
          <p:cNvSpPr/>
          <p:nvPr/>
        </p:nvSpPr>
        <p:spPr>
          <a:xfrm>
            <a:off x="219240" y="860400"/>
            <a:ext cx="3725640" cy="455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규  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1000(W) X 2000(L) X 220(H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디자인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밝은 원단에 비해 오염이 덜한 연그레이 원단에 은은한 무늬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가공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봉합 테이프 컬러는 진한 그레이 컬러로 투톤 디자인 적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소  재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원단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선방염 자가드 원단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100%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폴리에스테르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커버스폰지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경도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5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㎏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314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㎠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±3)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영구합출변형율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5%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이하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    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밀도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9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㎏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㎡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사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10mm * 2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매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내장재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*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폴리에스테르 솜 압축펀칭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7mm(1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㎡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당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700g)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파워텍스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*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폴리에스테르 솜 압축펀칭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0mm(1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㎡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당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000g)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가드텍스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스프링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고탄소 포스코산 최고급원료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인장강도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500~1720N/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㎟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탄소합유량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0.64~0.71%,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수축율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20mm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이하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280~320℃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의 고주파 열처리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높이는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50mm(±5), 6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회전 스프링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강선두께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2.50mm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헤리컬 코일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.40mm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테두리링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5.0mm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조립은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0.90mm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압연강판 클립고정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보조스프링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가장자리 탄력강화를 위해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6~8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개 투입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옆면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밀도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5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㎏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㎡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스폰지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공기통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4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개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습기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녹방지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공법 및 기타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인체에 무해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무취한 핫멜트 접착공법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상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하면 동일사양 적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양면사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), 2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중 비닐포장 완성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직사각형 14"/>
          <p:cNvSpPr/>
          <p:nvPr/>
        </p:nvSpPr>
        <p:spPr>
          <a:xfrm>
            <a:off x="219240" y="5584680"/>
            <a:ext cx="41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*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상기 자재 및 하드웨어는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K.S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품질기준 또는 동일한 품질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기준에 합격한 제품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한컴 윤고딕 240"/>
                <a:ea typeface="나눔스퀘어 Bold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5" name="Picture 14" descr="D:\2012\아주대\기숙사\시몬스침대\맥시패딕.jpg"/>
          <p:cNvPicPr/>
          <p:nvPr/>
        </p:nvPicPr>
        <p:blipFill>
          <a:blip r:embed="rId4"/>
          <a:stretch/>
        </p:blipFill>
        <p:spPr>
          <a:xfrm>
            <a:off x="7985160" y="396720"/>
            <a:ext cx="1927080" cy="20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5T23:00:37Z</dcterms:created>
  <dc:creator>LIVART</dc:creator>
  <dc:description/>
  <dc:language>en-US</dc:language>
  <cp:lastModifiedBy>ajou</cp:lastModifiedBy>
  <cp:lastPrinted>2018-05-23T01:14:21Z</cp:lastPrinted>
  <dcterms:modified xsi:type="dcterms:W3CDTF">2018-06-08T09:12:13Z</dcterms:modified>
  <cp:revision>254</cp:revision>
  <dc:subject/>
  <dc:title>슬라이드 1</dc:title>
</cp:coreProperties>
</file>